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3D7-559F-4043-A0C5-AEAC80BC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6C88-7616-46B1-95CB-D56722B5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0E5-D0FA-40A6-BCBA-4DA05374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815-A3C0-46BA-995B-2CE82694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2FE-4518-43E4-B456-32D57DA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A81F9-3835-4615-BA1A-BFF1973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79C15-F405-459D-B685-89BE817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DC0A2-58C0-416B-8F8D-4488DEA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12C8-3DE0-49CF-B568-EC26388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12FE1-F30F-4AF8-BA99-791EB86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338F-5F87-4535-88E9-5B575AF6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9F74D-F8F8-4352-843E-E5A54B0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419E5-3BA1-4240-A1C6-A2A6EA4D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54B19-761B-4672-AC44-9D7536F5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0C0B-83AD-460E-9BE4-B36EE78A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427-6180-4BD9-9BB5-FDBCE1CA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9DBEC-C4B5-41ED-B985-9FA4968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DAA8-54D3-4C78-9084-43B3F7C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85F5-8168-497F-BA4D-ED8F144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D5A64-EB75-424F-9C81-636A6F4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9B268-7B79-43A4-A34C-B869BDD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35DD1-DB26-4457-95FF-733E2EC6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5045B-850E-421B-9EA6-154C725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893AC-FDD8-4BD4-9B55-023B380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8ADD4-5118-4AB3-92EF-3EFC038D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1D6C9-CAF0-4A56-923F-34592F5B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C8E-63A5-42A9-BEE9-457BFFA4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F24C4-CD5C-4A5E-9879-A7D8859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3052B-184E-4FA4-AC94-CD8B94DB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3C23C-D62F-44F8-9A4C-AEE579D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C45E6-5E1C-4F9D-87C9-C981DFB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8F0C-4442-406B-8292-C9FF839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E464-A956-4271-8C08-DBB4571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E2520-38A4-4067-BB96-B036E2E9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D285B-B5E0-4CFF-8C11-3457C14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CBF1-5126-43D7-9AEC-440C1F4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65560-989D-433F-82B8-6105557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4C58-4E8A-426D-85B7-14B1DF3C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31E8-26B9-44D0-9020-97552A6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F50A7-3D5C-42BD-9226-2FB4E7E4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6B30-768D-4DC5-A571-A76CC60A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6F5B5-764D-4BBD-B301-6F50F0CE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1A086-985E-43FE-8E7B-4B3BCE3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AFADE-A937-4A28-B264-34DE72D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D82BA-567E-4661-819D-DBADFAE1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78F48-F0F5-44A3-B516-6494365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108BA-0940-4D6B-82DF-0B0EFCC1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A37C4-E016-47B0-9808-9BF71F06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C1B-3E83-4D67-A946-B1E21FC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A3E7D-450E-4601-89F5-5CF4D51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367ED-2F80-482F-AF30-21494E2A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0C893-5EF3-4434-8463-2584DB74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DA185-308D-4A7C-8FCC-AD415425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FB82A-8F80-46CD-A78F-5A29044B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98D34-5C9B-45F2-8313-A1882AFA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6CEC2-DAB5-4E86-AD6A-74171115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41730-109E-41EE-8841-74521487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87634-66CF-4814-94EF-25BEC59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73F6E-BB29-48E3-A40D-1C17924A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E53F-1CD8-4F3E-ABA0-6EE54EC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F4718-7689-42F4-80F8-5FA504B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4682B-5C40-4055-9C50-BB67967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57B0F-A50D-4176-A908-38D8258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479FF-1339-41EB-9CCD-3014A5E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5F220-6B43-4E85-80A3-34DF800D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B907B-B44F-4458-B3F1-52170A14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D37E0-BE8A-4D63-B5EE-55A221E2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FBF1A-207F-4FEA-B2E9-7B0D6A00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1890B-44CB-41F8-A7FB-BBC07879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84ED2-48B5-4EA4-A106-3D6BB99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9C0B-202D-4631-80E3-536BE5F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0F8E2-1455-4D8D-AA0F-EDECAA32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2AE58-A29E-4A96-835C-7B8C5D5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3EE24-4B55-4099-8506-867D53ED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B420A-84B9-4E4C-8498-D0183BC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31B5F-B190-4A83-ADD6-C0D60444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25453-B808-4D8B-AB5D-4A9E599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79B5-A208-4402-803D-C64C009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5927D-CEB6-45C4-97D8-9AFEC217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28C38-AD6D-4F3F-B71B-8F91CD29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D71CB-662B-42EF-9E48-0FC27AC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006-9D44-4791-B734-2613E94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251CF-4C08-4058-8A3F-F5DBCD7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474C2-AF62-48C6-BCB6-623FAB3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CCDDA-35E2-43A5-8813-FB68AE4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6F0A8-5D0D-40D8-B29B-966C29D9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06E96-D90C-4C75-8177-1EDC04B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6891A-1848-43A9-94ED-8B99C2E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900D1-3177-4A8A-9AE4-9877E1C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AC1C6-180A-48F2-A990-3089907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B528B-86FF-425E-9CDA-0443A10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98191-3A25-42EB-8EB0-1D79706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A611-F2DB-42E0-819B-CCE73E9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967A7-F1E8-4AE3-AD3B-D988817A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20FE2-0C77-49F8-8D80-B83AD1B6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4F5AA-4F37-445E-9506-8625D721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73A2B-22CB-4294-80F0-054D05A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1CD27-A084-4EF8-B702-7AF05C4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DA5EB-6C3E-4651-831F-BD2FE3F2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CDE6D-8C29-4D9A-BAB5-D25728F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BB03C-25F2-4C77-8220-51B65A3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41CB3-EADB-44B8-8557-6C4FD36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48ADA-0720-4E9F-8DB3-4CFC56F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687-9913-49FA-BE3D-B7B2C0D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CA580-7ABE-46D1-9DDC-ECAC581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3D3BE-AAA8-4C6F-B634-860E8C6B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B5869-4F20-4F2F-94F5-C650176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D7F0E-DB24-4416-ABD2-406EB93E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D4B49-9B6F-431E-A106-28398C3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FE61B-78C2-4D25-826F-538C40D6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84A43-CEEF-4690-A194-E2F0B5E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2CC06-F705-42D6-9550-8FB4187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EF641-1B2B-42DC-B16F-C01C226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8048A-696E-41E6-8961-862D4A9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4CD-9494-4018-8BDB-CD0FA237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4467-3E2B-4C2F-A799-8C7E441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2AA8F-3ACA-44DE-ACB1-A7B69D8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005F1-0E92-4847-B470-7E0065B6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1AB0F-E5DD-4241-B604-E8BE581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A3A31-67B9-498A-A52D-2534605A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3160D-7C4B-48C5-AE5A-F2410AD8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E1690-39D9-4A98-84E1-35D16794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3D065-9AD8-4F76-A10A-FA329B5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1E794-3733-4CC9-8EF4-5D26D447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FCFBF-CE3C-4846-80FD-07D6CF2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2EA0A-9083-4882-9AAA-A4FC341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89C-21E9-4F21-A139-CBD33FD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1FCD8-3242-4C76-BF84-BCC54B64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BFE5D-B013-41DE-A5FE-E5A7F92E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96023-C81C-45DE-B4B6-220D8EA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D1830-C66F-40ED-AB7B-5659245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5763A-8C03-4F79-BED5-2651073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A7F45-5769-4B12-9BA6-69916C7D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3830D-F970-4175-82E8-40CBE997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077C2-5D0A-4850-9978-9F6B66BA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C3B03-190C-43C3-9CCD-18AD3F65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4FE21-EFE7-4E0F-8269-A633B1B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0063-955E-49AD-9E0A-B92EC8FC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FE113-DBC8-41AD-A428-D19BC5B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BAEC8C-CD95-419C-9BAD-8172A76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E6620-DF76-4562-B0DE-E3D1D099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1E4C0-DAA3-4F12-8261-822F2144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4C1EA-CAA8-4763-A257-4C12B3C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93D0C-38D6-4C60-87C4-5DDB2BC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6EBAE-BA5A-45C5-A394-987A594D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0F814-B7D9-4A40-9287-1A9D1C2D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DE6C4-7AA0-470E-A5C5-801E6FA8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9DB81-15D9-4C8A-8E0C-0E34951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74A-320C-4773-8378-D78F1B6E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BE3DF-5E4E-48C7-B089-BCB73715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B962E-5B49-4B86-9C33-D32B227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794C3-63F3-4784-ADE8-7835E21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891CD-28BD-4AB9-B23E-4234A7C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77C23-DA4D-4CAF-8908-06219B9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C12C4-A18A-4F57-8819-325FB19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E1774-8B59-435D-9836-73B023C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24B44C-FC8C-41B7-935B-5235EE6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2F71C-614E-47CD-B96A-FC0C269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EFBAC-FCCB-4987-906D-A9DB92EE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F88-1589-40ED-987B-BC73EE78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51250-A8BD-4BC7-B853-A3720ED0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BFB71-27C9-4F3B-91C3-7CD4F48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8962F-1435-431E-A662-E2DE11C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31061-0591-45A5-A1D4-D47B6C1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0303C-7920-4C4B-A118-CEA03EA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C4958-CD90-49A4-8817-3F9E8C5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B93EB-37CC-46D0-BCEB-7A7356F1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5360E-4598-4ED4-AA6E-3E4AB9A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3665A-C1FE-414C-AFE6-2EF804C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E2A4F-B6EA-4452-B217-40EB95F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3AB2-CED4-46F8-AB9F-D0BFA275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86981-393F-4DC7-B3B9-DE55630D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A7CB83-C6D8-4F8B-B83A-4A5022DE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AC045-B01A-40B9-B8BD-A214FCD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00ED3-2C7E-4D81-BB89-016DA904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41BFB-132C-4349-AD80-748DD52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FB5FA-2668-430E-801A-36D1C888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53BD2D-7039-4765-8E14-FC7640B9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79FB1C-921A-4350-B02A-6EC7E84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C83E7-CE73-4614-9019-798662D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F1E72-27E0-4E94-8972-D17CFDA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D296-7560-40DE-81D2-51382F0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CACC8-43B8-4FC7-A5F8-82F46E0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9F54C-0F4B-4974-AB9A-BAE1804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864F9-2CF2-40B6-A267-5192768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E6955-D577-42DF-BA6B-276B1959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CF213-208D-4FE3-8D9B-B3F1CA2B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F48477-ED3C-4388-8CBB-FB4B775F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76AA2E-1C06-460B-84E6-A865C80A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6B1820-DB78-41B5-9035-0F1F5D3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84D5C-3CE2-4001-A229-29D9782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3CB6F-37D6-48DB-AB23-40A8FD4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606A-B668-4165-9644-31E8C04A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A5606-F617-415E-B6B2-4D481EF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22ACE-34D5-4290-B47D-D5FA9F1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252B8C-BCE2-4026-A474-E797E30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FFAB99-9310-40EF-B7FF-E139F8F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89131-3554-427B-8B66-E798ABF1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74D99-3F21-4E0A-B16F-E8784A72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22AFF-F92C-413B-8DD9-A082DBBE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957195-17FF-4E72-BC7A-1362A385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46BD06-A865-4B6E-8E20-9877CFB0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E10B6-44B1-4C81-BB85-033AA2D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86D8-5DEC-4A49-AC38-479F82F6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6C7261-3E02-4AAE-82D5-D2544681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966C9-518C-46B3-8377-041E08BB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EC015-310D-417C-B26B-FA95C961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FD74FF-D241-40C6-AA6E-DA11322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7F028-1B20-46A7-AB64-64AFFAB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38CB96-565D-45C6-9A1A-2CD26F6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BCFC86-0603-4E6E-BE0D-6509841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588228-8E1B-47F3-B753-B4D61535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F63F8-80CE-4E8B-B354-ABF453E4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2409C0-7FC4-4652-97AC-C59E2124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8A33-7840-4575-BD66-CACAD03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84AE1E-8965-4499-A21E-393D2DE2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DB614-DF32-4492-9B9F-A2F7CC97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DC5D1D-D4A2-4891-9683-19D9C327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C88087-33E8-4F50-A385-49A22928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4BD5FD-8923-4678-8BC9-F9057FC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42C3E-DEE9-4327-BB5C-FEB6A5E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993E5E-B650-4D10-B951-C1F872E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7E34A-3595-48BA-BF31-35EACB2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58600-78BF-4F1B-B342-5B6BCC3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F5028B-F8E9-442D-B925-54AECC85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674-4E82-439F-887E-F5041C07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722B-AC90-4A6A-AD98-F72766D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F63542-CB91-45BF-958D-F7FA76C2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7AF462-541B-4CA5-8FB5-FF43998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820DBD-4C65-45D2-9899-3888BCA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662DAE-38ED-4898-8188-A2C4A400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F62CD1-2D9B-499F-A4DE-3745974E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31A9B5-CA81-4D29-929E-7EE3C63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D0452C-5AB6-45F1-836E-9A10226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E35EEA-FEF7-473C-8E9C-AEA6F71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8DD682-623E-4FED-9163-B499B8D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8B114C-EF0F-4D6D-BA5B-C81BC15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428D-64E6-46D0-870B-E0FB2ED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83E874-2733-46D9-B3D5-735238B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D2FABA-2E46-44E3-8CD1-D59F2CDE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CDF78-C9A3-4196-A0D1-A1F2E1BF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C5B05E-9272-4F16-B5B7-2CA26E0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F53F9-0454-462F-82AB-8404EFE6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29B4D7-30CA-41F5-BA81-C4CD0C6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BC05D4-BE48-4EFF-AC56-D2666FC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B9B4E6-3154-475B-B9AD-8B5B344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9A3111-1D9A-4A90-8CB2-49D5A57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D97E66-0511-42F7-85C2-1ECEFC8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DB48-6A99-4EA4-8D3D-AA5F3033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4A4A7A-8777-44E4-8025-3B04570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94E865-5840-4182-926E-24D5683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E38099-DAC3-4B4C-B252-036A153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D4BA27-74E9-469D-A0E8-A11D734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88AAA-813A-46C6-BDF8-68D1CE6F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7C88B9-1178-4D11-BF98-5A1468FC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0F8B08-7E8D-459F-8551-77CF91D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7A4C27-2E51-43F2-A177-A729209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318BFE-6EDE-41C2-B51A-64D064C1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2482A2-A605-4DB7-B55D-33255B75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7EC9-8C3B-443B-A9A5-2B84D2B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0B1C54-9E2F-48F4-B0AF-90EEE7B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F97DBA-D9C0-4350-9C97-BAEA860D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2E9F9F-FAA2-4CB9-8C8A-21FE29C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576F8B-695D-4DBD-93E4-70879D2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1FADED-E877-4B68-9C73-4EF7DB7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CEF69E-FC12-4DF3-A064-A2F1283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490055-68AD-4385-AA56-0E34365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E2D3-ED9F-4CC3-8D61-0C0993B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3BB3-A82C-4930-A59D-53A6CF09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1323-7105-4FB6-BFBB-35C3E87F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E373-6EC7-4BA5-BE5F-9AF50298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B459-818B-4E80-9B96-B3C5239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B7A2C-7A18-4362-A8DA-D01780D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4EF-5F5F-4443-93BB-229B4768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9A9E-6188-479F-9FFE-654E2DD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089B-F5FF-490C-980C-17A31D1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925C-89AD-458D-AF9C-FD230BF8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FE5C-CDAE-4061-803A-37BF3E5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EAF0-E09C-4684-9168-EBF3E54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8678-75C1-4F2D-B1D7-1A8CDDF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DE11-781D-47A0-8913-0F7EF89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96B4-714D-441A-A55F-D5902842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DF3C-58BF-4C2A-B739-1C7B8A63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09C4-87D0-4EAA-BA39-CF143C70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9FB-1229-421E-99E2-45D8CCB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4907-8C09-4D12-B2FB-F957D90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83B2-660E-48C0-8A12-EE27F938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5600-B2A5-4D23-8811-075DB5E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9A40-603A-401F-80EA-0F865720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BE3E-9D4A-4FE8-8CAB-7FC25DB9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87D8-6988-4783-ABE6-13E8483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0890-0758-443F-8D79-B31A25B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4C312-9847-413F-94D9-0934B80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127B6-613E-4B74-9A3C-FF87931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3878-0865-4189-A152-BE5010C8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CEC-B8E2-4C53-AB06-2E539313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1C80-4CD4-441E-A73A-2B4EFE78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7CBD-690F-42DC-9C15-0F71093E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D348-AD9D-4ED8-95E3-37312F3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18D9-7EBE-41C4-8813-13C9C974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1780-2467-44E7-B9B5-F9B7453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B5D5-96B0-41B0-8186-385BBF3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F6BF-8ED9-4ECB-99CA-1925BAB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39474-221B-4883-B2AB-EB9DE38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A21F-CE65-4E01-A430-480BCCB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38D5-20EF-46E0-A6D6-AC9A3FB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BCA-40BC-48DB-B37E-A3CD765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530C-E4CC-4EA7-BA9A-7DEC760E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8121-92FB-4A88-87E8-2F210834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2B94-EF9F-43D9-A4D4-84C78425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49906-AB09-4101-9AE6-9400873C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6BE6-F2F3-4ED0-A5E2-72CA4B8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E0F3-EC39-43DA-9F99-5F5AC5B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C0C8-1A2A-4C6B-AA70-3D626EBB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E76F-4517-4388-A135-42FFDD2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A808-7F7B-41DB-896E-C3F9F0D4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FBFD-A530-46E0-900A-353866A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033-7015-4943-886C-DB62525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5CB7-8F7A-4EC1-9675-83DA2AA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1D683-083B-4471-B992-485491BB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1670-C9DE-4BC8-9CD4-41DF9BD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DE4C-98AC-4CE5-B8FB-C67C2952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BA13-5188-452E-AD69-EF835C09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98A5D-ACB9-4084-B2F2-216E3128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16AD-E4B2-4C91-803D-8C4A2AD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885C4-1D54-4826-B500-2CD22D2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A65D-C320-4C1E-981B-B5C2803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7FF0-B41B-4207-A61A-710DFA8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EEF-1316-4619-9C28-B4EDD519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85B6-58EC-4DDA-A463-5DD720C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158C-1DA6-47A6-BCD2-C8C8EB8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E7B2-93E6-45B7-9086-CC4EFA3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3952-F930-4ECA-8BA0-579DC68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40FE-1D59-4045-903A-0E68753B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4415-D237-4F4B-9F22-2654686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212D-E7AA-4488-8DD2-310A06B8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F500-03FB-4692-B79C-2F3CEA42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A130B-DD09-4634-942B-0CA5B04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6547-25BB-4B37-B51C-6FB703F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A71A-61E6-4914-850B-44EB863CB0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CE3-7FDA-4439-87E1-EEBAD97EAE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273-742D-4BC4-A699-74204BEEC5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1F8-D1FB-41A8-94A7-7253629ABE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2E0-64C3-4415-8068-8C95E3CC39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2A9-7515-41AA-9470-023BD7B6CC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EDE-E0ED-4381-B0F0-D1324D0524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D59-F050-45B0-9D79-DA67BEB89E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5CC-A367-425E-BB5D-F3D3A38F25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1BB-4F8E-47DE-A4F3-0D3C60B0D4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CFC-91A5-4C42-9F24-D1F16ACF06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F8F-057A-4700-8C04-1ED52D5E5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A0A-261B-4E69-8BCE-181A93D394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607C-3516-44FA-98DF-2D7BF99806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A8D8-C129-438A-9CD5-C40EF2606B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55F-0644-42D7-AD05-E120AB68CB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9B2F-E648-40CA-92E8-8F160C46F8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D376-BD35-4983-B095-89C292C052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4AE-3ACB-4144-89E0-C31C6F5B30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DA53-7F7C-4206-8058-C1372CEFFD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864-4C45-4B6E-AB33-439973841A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EB4-F014-40C7-B1C8-668F9B770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600F-FADC-4615-B691-4E851590C7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142-831D-4C9D-B052-4B821A3BF2F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B2F-5D0A-4C70-B3A4-A22FAB7DB8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575-4BC6-4E79-9AA1-17F0390307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332D-B023-4B39-9D83-EAED1E70EB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52F-4E7A-4894-B04C-CFABC31E0B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Title 2" descr=""/>
          <p:cNvPicPr/>
          <p:nvPr/>
        </p:nvPicPr>
        <p:blipFill>
          <a:blip r:embed="rId1"/>
          <a:stretch/>
        </p:blipFill>
        <p:spPr>
          <a:xfrm>
            <a:off x="304920" y="1706400"/>
            <a:ext cx="8935920" cy="32306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C:\Documents and Settings\Ahaileslassie\Desktop\NBDC_LogoSmallSize_WebV.jpg"/>
          <p:cNvPicPr/>
          <p:nvPr/>
        </p:nvPicPr>
        <p:blipFill>
          <a:blip r:embed="rId2"/>
          <a:stretch/>
        </p:blipFill>
        <p:spPr>
          <a:xfrm>
            <a:off x="-19080" y="0"/>
            <a:ext cx="18842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123840" y="1676520"/>
          <a:ext cx="9020160" cy="1811160"/>
        </p:xfrm>
        <a:graphic>
          <a:graphicData uri="http://schemas.openxmlformats.org/drawingml/2006/table">
            <a:tbl>
              <a:tblPr/>
              <a:tblGrid>
                <a:gridCol w="6095880"/>
                <a:gridCol w="29242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cca62"/>
                      </a:solidFill>
                    </a:lnL>
                    <a:lnR>
                      <a:noFill/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del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1414440"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imate WR and consumption of crops grown under different soils Clim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cca62"/>
                      </a:solidFill>
                    </a:lnL>
                    <a:lnR>
                      <a:noFill/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WAT (vr. 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quaCrop (Vr. 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189" name="Rectangle 5"/>
          <p:cNvSpPr/>
          <p:nvPr/>
        </p:nvSpPr>
        <p:spPr>
          <a:xfrm>
            <a:off x="493560" y="36939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s alternative AWM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3" descr=""/>
          <p:cNvPicPr/>
          <p:nvPr/>
        </p:nvPicPr>
        <p:blipFill>
          <a:blip r:embed="rId1"/>
          <a:stretch/>
        </p:blipFill>
        <p:spPr>
          <a:xfrm>
            <a:off x="189000" y="4281480"/>
            <a:ext cx="8672400" cy="1204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4" descr=""/>
          <p:cNvPicPr/>
          <p:nvPr/>
        </p:nvPicPr>
        <p:blipFill>
          <a:blip r:embed="rId2"/>
          <a:stretch/>
        </p:blipFill>
        <p:spPr>
          <a:xfrm>
            <a:off x="189000" y="5486400"/>
            <a:ext cx="8955000" cy="1371600"/>
          </a:xfrm>
          <a:prstGeom prst="rect">
            <a:avLst/>
          </a:prstGeom>
          <a:ln w="0">
            <a:noFill/>
          </a:ln>
        </p:spPr>
      </p:pic>
      <p:pic>
        <p:nvPicPr>
          <p:cNvPr id="1192" name="Title 4" descr=""/>
          <p:cNvPicPr/>
          <p:nvPr/>
        </p:nvPicPr>
        <p:blipFill>
          <a:blip r:embed="rId3"/>
          <a:stretch/>
        </p:blipFill>
        <p:spPr>
          <a:xfrm>
            <a:off x="-244440" y="396720"/>
            <a:ext cx="9388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Title 1" descr=""/>
          <p:cNvPicPr/>
          <p:nvPr/>
        </p:nvPicPr>
        <p:blipFill>
          <a:blip r:embed="rId1"/>
          <a:stretch/>
        </p:blipFill>
        <p:spPr>
          <a:xfrm>
            <a:off x="-60480" y="384120"/>
            <a:ext cx="9204480" cy="13590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2" descr=""/>
          <p:cNvPicPr/>
          <p:nvPr/>
        </p:nvPicPr>
        <p:blipFill>
          <a:blip r:embed="rId2"/>
          <a:stretch/>
        </p:blipFill>
        <p:spPr>
          <a:xfrm>
            <a:off x="254160" y="1752480"/>
            <a:ext cx="888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733572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3" descr=""/>
          <p:cNvPicPr/>
          <p:nvPr/>
        </p:nvPicPr>
        <p:blipFill>
          <a:blip r:embed="rId2"/>
          <a:stretch/>
        </p:blipFill>
        <p:spPr>
          <a:xfrm>
            <a:off x="685800" y="1122480"/>
            <a:ext cx="8001000" cy="676728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9829800" cy="711972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5" descr=""/>
          <p:cNvPicPr/>
          <p:nvPr/>
        </p:nvPicPr>
        <p:blipFill>
          <a:blip r:embed="rId4"/>
          <a:stretch/>
        </p:blipFill>
        <p:spPr>
          <a:xfrm>
            <a:off x="990720" y="1058760"/>
            <a:ext cx="10228320" cy="689472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" descr=""/>
          <p:cNvPicPr/>
          <p:nvPr/>
        </p:nvPicPr>
        <p:blipFill>
          <a:blip r:embed="rId5"/>
          <a:stretch/>
        </p:blipFill>
        <p:spPr>
          <a:xfrm>
            <a:off x="555480" y="3505320"/>
            <a:ext cx="8817120" cy="61974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3" descr=""/>
          <p:cNvPicPr/>
          <p:nvPr/>
        </p:nvPicPr>
        <p:blipFill>
          <a:blip r:embed="rId6"/>
          <a:stretch/>
        </p:blipFill>
        <p:spPr>
          <a:xfrm>
            <a:off x="-25560" y="0"/>
            <a:ext cx="10439640" cy="9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1" name=""/>
          <p:cNvGraphicFramePr/>
          <p:nvPr/>
        </p:nvGraphicFramePr>
        <p:xfrm>
          <a:off x="76320" y="1066680"/>
          <a:ext cx="8991360" cy="407844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631800"/>
                <a:gridCol w="709560"/>
                <a:gridCol w="609480"/>
                <a:gridCol w="609840"/>
                <a:gridCol w="1303200"/>
                <a:gridCol w="677880"/>
                <a:gridCol w="1295280"/>
              </a:tblGrid>
              <a:tr h="730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 and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ing season eff. rainfall (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  (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with respect to eff. rainfall (kg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with respect to actual ETc    (kg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increase due to 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wari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gollo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jen 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ir Dar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awi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chena 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1: WR, Consumption and WP of wheat grown on BBF and Flat seedb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6"/>
          <p:cNvSpPr/>
          <p:nvPr/>
        </p:nvSpPr>
        <p:spPr>
          <a:xfrm>
            <a:off x="25560" y="50292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BF and Flat beds planted on June 10 and August 15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5715000" y="2362320"/>
            <a:ext cx="685800" cy="2514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3"/>
          <p:cNvSpPr/>
          <p:nvPr/>
        </p:nvSpPr>
        <p:spPr>
          <a:xfrm>
            <a:off x="5703840" y="3741840"/>
            <a:ext cx="685800" cy="449280"/>
          </a:xfrm>
          <a:prstGeom prst="ellipse">
            <a:avLst/>
          </a:prstGeom>
          <a:noFill/>
          <a:ln w="25560">
            <a:solidFill>
              <a:srgbClr val="00b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2: WR, Consumption and WP of rice, grass-pea and extensively  grazed grass grown on flat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52280" y="990720"/>
          <a:ext cx="8931240" cy="5492520"/>
        </p:xfrm>
        <a:graphic>
          <a:graphicData uri="http://schemas.openxmlformats.org/drawingml/2006/table">
            <a:tbl>
              <a:tblPr/>
              <a:tblGrid>
                <a:gridCol w="1189080"/>
                <a:gridCol w="1123920"/>
                <a:gridCol w="168480"/>
                <a:gridCol w="549000"/>
                <a:gridCol w="1276560"/>
                <a:gridCol w="1036440"/>
                <a:gridCol w="317520"/>
                <a:gridCol w="497160"/>
                <a:gridCol w="161640"/>
                <a:gridCol w="538200"/>
                <a:gridCol w="111240"/>
                <a:gridCol w="527040"/>
                <a:gridCol w="1434960"/>
              </a:tblGrid>
              <a:tr h="36540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Rice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with respect to 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444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Grass -pe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372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Pasture  (extensive grazing)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row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R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 Actual 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Title 1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 txBox="1"/>
          <p:nvPr/>
        </p:nvSpPr>
        <p:spPr>
          <a:xfrm>
            <a:off x="304920" y="20574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of BBF increased water demand, but reduced evaporation l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BF increased WP with respect to effective rainf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ing rice instead of grass-pea or grazing  increased water demand, but reduced evap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of BBF on drainable and rice on flat land increased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conomic Water Produ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Title 1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309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57:10Z</dcterms:created>
  <dc:creator>Ahaileslassie</dc:creator>
  <dc:description/>
  <dc:language>en-US</dc:language>
  <cp:lastModifiedBy>Erkossa, Teklu  (IWMI)</cp:lastModifiedBy>
  <dcterms:modified xsi:type="dcterms:W3CDTF">2012-11-12T10:23:40Z</dcterms:modified>
  <cp:revision>124</cp:revision>
  <dc:subject/>
  <dc:title>Water productivity of mixed crop-livestock systems: progresses and challenges   Amare Haileslassie; Teklu Erkossa</dc:title>
</cp:coreProperties>
</file>